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AE02A-36DC-4A02-A1F9-1DF0B62F6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C0E3D-67E5-4C15-AE96-786D567F5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36435-DCC3-406A-B11F-D585E30FE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7D267-E017-4E60-A5F1-2A771EEC8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1BCD6-9831-4450-BB36-3BC8E9A3B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FDF1D-CD9E-4DA0-8FA6-A29D72D0D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D6D9C-5226-4505-9756-D5BFCF642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F4C55-CA9A-4E6C-9A7A-816A8035E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B09FE-C126-45F8-8CF2-FD606F475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A3202-E93D-4CCC-A813-0FC447F09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A9692-0052-4CBF-9ED3-69ED0AB3A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9496E-89BE-44CC-8294-031B8CCFE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380C2-6C46-44BD-9FD3-DD112893E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51053-FF13-4642-B3A7-1BBA96CD8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AEAFD-4CC4-4E0F-A497-40B1B5BB7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38F6A-CD67-4521-8136-96633A7B7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17920-5ADE-48BF-8BE3-D82983CF6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9DF05-6221-415E-8C54-ACC388B3E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C07EC-A104-4475-8A2F-D5C039725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03184-F943-4D69-924B-1E24E57D3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4E7FB-1938-4D65-AC8A-C8BD34D4C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1F613-3A45-499F-8A75-C252D93AF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EBD99-6D53-428F-A789-5ED26CC63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655EC-EEEE-444E-AF6C-002D973F2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Martin, Understanding Homeland Security (c 2015 SAGE Publicati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8C44A-8D24-43CF-B2BA-84719B0872DB}" type="slidenum">
              <a:rPr b="0" lang="en-US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Martin, Understanding Homeland Security (c 2015 SAGE Publicati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6A6C9-2C1F-473C-86E5-DBAAC7667C2F}" type="slidenum">
              <a:rPr b="0" lang="en-US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Rectangle 2" descr=""/>
          <p:cNvPicPr/>
          <p:nvPr/>
        </p:nvPicPr>
        <p:blipFill>
          <a:blip r:embed="rId1"/>
          <a:stretch/>
        </p:blipFill>
        <p:spPr>
          <a:xfrm>
            <a:off x="231840" y="993600"/>
            <a:ext cx="8875800" cy="274968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4" name="Footer Placeholder 1"/>
          <p:cNvSpPr/>
          <p:nvPr/>
        </p:nvSpPr>
        <p:spPr>
          <a:xfrm>
            <a:off x="3124080" y="641664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Martin, Understanding Homeland Security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© 2015 SAGE Publications, Inc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hecke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Rectangle 2" descr=""/>
          <p:cNvPicPr/>
          <p:nvPr/>
        </p:nvPicPr>
        <p:blipFill>
          <a:blip r:embed="rId1"/>
          <a:stretch/>
        </p:blipFill>
        <p:spPr>
          <a:xfrm>
            <a:off x="457200" y="165240"/>
            <a:ext cx="8290080" cy="230328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0" y="2362320"/>
            <a:ext cx="9144000" cy="394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0ad00"/>
                </a:solidFill>
                <a:latin typeface="Book Antiqua"/>
              </a:rPr>
              <a:t>National Association of Countie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NACO Homeland Security Initiative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0ad00"/>
                </a:solidFill>
                <a:latin typeface="Book Antiqua"/>
              </a:rPr>
              <a:t>National League of Citie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NLC Lobbying Effort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1" name="Footer Placeholder 1"/>
          <p:cNvSpPr/>
          <p:nvPr/>
        </p:nvSpPr>
        <p:spPr>
          <a:xfrm>
            <a:off x="3124080" y="6416640"/>
            <a:ext cx="3429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Martin, Understanding Homeland Security © 2015 SAGE Publications, Inc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hecker dir="horz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Rectangle 2" descr=""/>
          <p:cNvPicPr/>
          <p:nvPr/>
        </p:nvPicPr>
        <p:blipFill>
          <a:blip r:embed="rId1"/>
          <a:stretch/>
        </p:blipFill>
        <p:spPr>
          <a:xfrm>
            <a:off x="457200" y="165240"/>
            <a:ext cx="8290080" cy="230328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 txBox="1"/>
          <p:nvPr/>
        </p:nvSpPr>
        <p:spPr>
          <a:xfrm>
            <a:off x="0" y="2362320"/>
            <a:ext cx="9144000" cy="394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0ad00"/>
                </a:solidFill>
                <a:latin typeface="Book Antiqua"/>
              </a:rPr>
              <a:t>U.S. Conference of Mayor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Advocacy and Publicizing Effort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Appropriations Advocacy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4" name="Footer Placeholder 1"/>
          <p:cNvSpPr/>
          <p:nvPr/>
        </p:nvSpPr>
        <p:spPr>
          <a:xfrm>
            <a:off x="3124080" y="6416640"/>
            <a:ext cx="3581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Martin, Understanding Homeland Security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© 2015 SAGE Publications, Inc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hecker dir="horz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Rectangle 2" descr=""/>
          <p:cNvPicPr/>
          <p:nvPr/>
        </p:nvPicPr>
        <p:blipFill>
          <a:blip r:embed="rId1"/>
          <a:stretch/>
        </p:blipFill>
        <p:spPr>
          <a:xfrm>
            <a:off x="457200" y="195120"/>
            <a:ext cx="8229600" cy="198144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 txBox="1"/>
          <p:nvPr/>
        </p:nvSpPr>
        <p:spPr>
          <a:xfrm>
            <a:off x="457200" y="23619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e Police Mission in Homeland Security Environment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e Operational Impact of Terrorism: Adaptations by Law Enforcement Agencie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ase in Point: Joint Terrorism Task Force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7" name="Footer Placeholder 1"/>
          <p:cNvSpPr/>
          <p:nvPr/>
        </p:nvSpPr>
        <p:spPr>
          <a:xfrm>
            <a:off x="2819520" y="641664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Martin, Understanding Homeland Security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© 2015 SAGE Publications, Inc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hecker dir="horz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Rectangle 2" descr=""/>
          <p:cNvPicPr/>
          <p:nvPr/>
        </p:nvPicPr>
        <p:blipFill>
          <a:blip r:embed="rId1"/>
          <a:stretch/>
        </p:blipFill>
        <p:spPr>
          <a:xfrm>
            <a:off x="457200" y="195120"/>
            <a:ext cx="8229600" cy="198144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 txBox="1"/>
          <p:nvPr/>
        </p:nvSpPr>
        <p:spPr>
          <a:xfrm>
            <a:off x="457200" y="2286000"/>
            <a:ext cx="8229600" cy="402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0ad00"/>
                </a:solidFill>
                <a:latin typeface="Book Antiqua"/>
              </a:rPr>
              <a:t>The Police Mission in Homeland Security Environment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e Internal Security Imperatives of Law Enforcement Agencie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curity-Focused vs. Crime-Focused Operation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curity Dutie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0" name="Footer Placeholder 1"/>
          <p:cNvSpPr/>
          <p:nvPr/>
        </p:nvSpPr>
        <p:spPr>
          <a:xfrm>
            <a:off x="3124080" y="6416640"/>
            <a:ext cx="3733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Martin, Understanding Homeland Security © 2015 SAGE Publications, Inc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hecker dir="horz"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Rectangle 2" descr=""/>
          <p:cNvPicPr/>
          <p:nvPr/>
        </p:nvPicPr>
        <p:blipFill>
          <a:blip r:embed="rId1"/>
          <a:stretch/>
        </p:blipFill>
        <p:spPr>
          <a:xfrm>
            <a:off x="457200" y="195120"/>
            <a:ext cx="8229600" cy="198144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 txBox="1"/>
          <p:nvPr/>
        </p:nvSpPr>
        <p:spPr>
          <a:xfrm>
            <a:off x="457200" y="2286000"/>
            <a:ext cx="8229600" cy="402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0ad00"/>
                </a:solidFill>
                <a:latin typeface="Book Antiqua"/>
              </a:rPr>
              <a:t>The Operational Impact of Terrorism: Adaptations by Law Enforcement Agencie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50-State Survey of Agencie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Active Participation in Terrorism-Related Dutie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ignificant New Responsibilitie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Allocation of More Resources for Border and Port Security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3" name="Footer Placeholder 1"/>
          <p:cNvSpPr/>
          <p:nvPr/>
        </p:nvSpPr>
        <p:spPr>
          <a:xfrm>
            <a:off x="3124080" y="6416640"/>
            <a:ext cx="3581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Martin, Understanding Homeland Securit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© 2015 SAGE Publications, Inc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hecker dir="horz"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Rectangle 2" descr=""/>
          <p:cNvPicPr/>
          <p:nvPr/>
        </p:nvPicPr>
        <p:blipFill>
          <a:blip r:embed="rId1"/>
          <a:stretch/>
        </p:blipFill>
        <p:spPr>
          <a:xfrm>
            <a:off x="457200" y="195120"/>
            <a:ext cx="8229600" cy="198144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 txBox="1"/>
          <p:nvPr/>
        </p:nvSpPr>
        <p:spPr>
          <a:xfrm>
            <a:off x="457200" y="2286000"/>
            <a:ext cx="8229600" cy="402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0ad00"/>
                </a:solidFill>
                <a:latin typeface="Book Antiqua"/>
              </a:rPr>
              <a:t>Case in Point: Joint Terrorism Task Force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Configuration of JTTF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Growth of JTTFs after September 11, 2001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BI Leadership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6" name="Footer Placeholder 1"/>
          <p:cNvSpPr/>
          <p:nvPr/>
        </p:nvSpPr>
        <p:spPr>
          <a:xfrm>
            <a:off x="3124080" y="6416640"/>
            <a:ext cx="3429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Martin, Understanding Homeland Security © 2015 SAGE Publications, Inc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hecker dir="horz"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20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20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Rectangle 2" descr=""/>
          <p:cNvPicPr/>
          <p:nvPr/>
        </p:nvPicPr>
        <p:blipFill>
          <a:blip r:embed="rId1"/>
          <a:stretch/>
        </p:blipFill>
        <p:spPr>
          <a:xfrm>
            <a:off x="298440" y="268200"/>
            <a:ext cx="8467560" cy="140832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 txBox="1"/>
          <p:nvPr/>
        </p:nvSpPr>
        <p:spPr>
          <a:xfrm>
            <a:off x="0" y="1905120"/>
            <a:ext cx="914400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0ad00"/>
                </a:solidFill>
                <a:latin typeface="Book Antiqua"/>
              </a:rPr>
              <a:t>Agencies and Missions</a:t>
            </a:r>
            <a:endParaRPr b="0" lang="en-US" sz="6600" spc="-1" strike="noStrike">
              <a:solidFill>
                <a:srgbClr val="ffffff"/>
              </a:solidFill>
              <a:latin typeface="Book Antiqua"/>
            </a:endParaRPr>
          </a:p>
          <a:p>
            <a:pPr marL="609480" indent="-6094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0ad00"/>
                </a:solidFill>
                <a:latin typeface="Book Antiqua"/>
              </a:rPr>
              <a:t>Homeland Security at the State and Local Level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7" name="Footer Placeholder 1"/>
          <p:cNvSpPr/>
          <p:nvPr/>
        </p:nvSpPr>
        <p:spPr>
          <a:xfrm>
            <a:off x="3124080" y="641664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Martin, Understanding Homeland Security © 2015 SAGE Publications, Inc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Rectangle 2" descr=""/>
          <p:cNvPicPr/>
          <p:nvPr/>
        </p:nvPicPr>
        <p:blipFill>
          <a:blip r:embed="rId1"/>
          <a:stretch/>
        </p:blipFill>
        <p:spPr>
          <a:xfrm>
            <a:off x="457200" y="103320"/>
            <a:ext cx="8321760" cy="17190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 txBox="1"/>
          <p:nvPr/>
        </p:nvSpPr>
        <p:spPr>
          <a:xfrm>
            <a:off x="457200" y="19047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tate Government and Homeland Security: Principal Role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tate Government and Emergency Management: Configuration of Service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National Collaboration: The National Emergency Management Association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Regional Collaboration: National Association of Regional Council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0" name="Footer Placeholder 1"/>
          <p:cNvSpPr/>
          <p:nvPr/>
        </p:nvSpPr>
        <p:spPr>
          <a:xfrm>
            <a:off x="3124080" y="641664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Martin, Understanding Homeland Security © 2015 SAGE Publications, Inc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hecke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Rectangle 2" descr=""/>
          <p:cNvPicPr/>
          <p:nvPr/>
        </p:nvPicPr>
        <p:blipFill>
          <a:blip r:embed="rId1"/>
          <a:stretch/>
        </p:blipFill>
        <p:spPr>
          <a:xfrm>
            <a:off x="457200" y="195120"/>
            <a:ext cx="8321760" cy="198144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 txBox="1"/>
          <p:nvPr/>
        </p:nvSpPr>
        <p:spPr>
          <a:xfrm>
            <a:off x="457200" y="2133360"/>
            <a:ext cx="8229600" cy="41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0ad00"/>
                </a:solidFill>
                <a:latin typeface="Book Antiqua"/>
              </a:rPr>
              <a:t>State Government and Homeland Security: Principal Role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Emergency Leadership: The Role of the Governor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Emergency Management: The Role of State Bureaucracie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3" name="Footer Placeholder 1"/>
          <p:cNvSpPr/>
          <p:nvPr/>
        </p:nvSpPr>
        <p:spPr>
          <a:xfrm>
            <a:off x="2666880" y="641664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Martin, Understanding Homeland Security © 2015 SAGE Publications, Inc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hecker dir="horz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Rectangle 2" descr=""/>
          <p:cNvPicPr/>
          <p:nvPr/>
        </p:nvPicPr>
        <p:blipFill>
          <a:blip r:embed="rId1"/>
          <a:stretch/>
        </p:blipFill>
        <p:spPr>
          <a:xfrm>
            <a:off x="457200" y="171360"/>
            <a:ext cx="8229600" cy="21938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 txBox="1"/>
          <p:nvPr/>
        </p:nvSpPr>
        <p:spPr>
          <a:xfrm>
            <a:off x="0" y="2209680"/>
            <a:ext cx="9144000" cy="409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0ad00"/>
                </a:solidFill>
                <a:latin typeface="Book Antiqua"/>
              </a:rPr>
              <a:t>State Government and Emergency Management: Configuration of Service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Internal State Decision on Configuration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Balancing Political and Budget Prioritie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urveys of State-Level Configuration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6" name="Footer Placeholder 1"/>
          <p:cNvSpPr/>
          <p:nvPr/>
        </p:nvSpPr>
        <p:spPr>
          <a:xfrm>
            <a:off x="3124080" y="6416640"/>
            <a:ext cx="3429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Martin, Understanding Homeland Security © 2015 SAGE Publications, Inc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hecker dir="horz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Rectangle 2" descr=""/>
          <p:cNvPicPr/>
          <p:nvPr/>
        </p:nvPicPr>
        <p:blipFill>
          <a:blip r:embed="rId1"/>
          <a:stretch/>
        </p:blipFill>
        <p:spPr>
          <a:xfrm>
            <a:off x="457200" y="171360"/>
            <a:ext cx="8229600" cy="219384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 txBox="1"/>
          <p:nvPr/>
        </p:nvSpPr>
        <p:spPr>
          <a:xfrm>
            <a:off x="0" y="2209680"/>
            <a:ext cx="9144000" cy="409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0ad00"/>
                </a:solidFill>
                <a:latin typeface="Book Antiqua"/>
              </a:rPr>
              <a:t>National Collaboration: The National Emergency Management Association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An Umbrella Organization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NEMA Strategic Plan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e National Homeland Security Consortium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9" name="Footer Placeholder 1"/>
          <p:cNvSpPr/>
          <p:nvPr/>
        </p:nvSpPr>
        <p:spPr>
          <a:xfrm>
            <a:off x="3124080" y="6416640"/>
            <a:ext cx="3429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Martin, Understanding Homeland Security © 2015 SAGE Publications, Inc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hecker dir="horz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Rectangle 2" descr=""/>
          <p:cNvPicPr/>
          <p:nvPr/>
        </p:nvPicPr>
        <p:blipFill>
          <a:blip r:embed="rId1"/>
          <a:stretch/>
        </p:blipFill>
        <p:spPr>
          <a:xfrm>
            <a:off x="457200" y="171360"/>
            <a:ext cx="8229600" cy="219384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 txBox="1"/>
          <p:nvPr/>
        </p:nvSpPr>
        <p:spPr>
          <a:xfrm>
            <a:off x="0" y="2209680"/>
            <a:ext cx="9144000" cy="409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0ad00"/>
                </a:solidFill>
                <a:latin typeface="Book Antiqua"/>
              </a:rPr>
              <a:t>Regional Collaboration: National Association of Regional Council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Councils of Government (COGs)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National Association of Regional Council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2" name="Footer Placeholder 1"/>
          <p:cNvSpPr/>
          <p:nvPr/>
        </p:nvSpPr>
        <p:spPr>
          <a:xfrm>
            <a:off x="3124080" y="6416640"/>
            <a:ext cx="3733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Martin, Understanding Homeland Security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© 2015 SAGE Publications, Inc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hecker dir="horz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Rectangle 2" descr=""/>
          <p:cNvPicPr/>
          <p:nvPr/>
        </p:nvPicPr>
        <p:blipFill>
          <a:blip r:embed="rId1"/>
          <a:stretch/>
        </p:blipFill>
        <p:spPr>
          <a:xfrm>
            <a:off x="274680" y="274680"/>
            <a:ext cx="8862840" cy="1998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4" name=""/>
          <p:cNvGraphicFramePr/>
          <p:nvPr/>
        </p:nvGraphicFramePr>
        <p:xfrm>
          <a:off x="0" y="2133720"/>
          <a:ext cx="9144000" cy="4724280"/>
        </p:xfrm>
        <a:graphic>
          <a:graphicData uri="http://schemas.openxmlformats.org/drawingml/2006/table">
            <a:tbl>
              <a:tblPr/>
              <a:tblGrid>
                <a:gridCol w="1306440"/>
                <a:gridCol w="1306440"/>
                <a:gridCol w="1306800"/>
                <a:gridCol w="1304640"/>
                <a:gridCol w="1306800"/>
                <a:gridCol w="1306440"/>
                <a:gridCol w="1306440"/>
              </a:tblGrid>
              <a:tr h="2414520">
                <a:tc>
                  <a:txBody>
                    <a:bodyPr lIns="6480" rIns="6480" tIns="6480" bIns="64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d00"/>
                    </a:solidFill>
                  </a:tcPr>
                </a:tc>
                <a:tc>
                  <a:txBody>
                    <a:bodyPr lIns="6480" rIns="6480" tIns="6480" bIns="648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Governo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d00"/>
                    </a:solidFill>
                  </a:tcPr>
                </a:tc>
                <a:tc>
                  <a:txBody>
                    <a:bodyPr lIns="6480" rIns="6480" tIns="6480" bIns="648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Adjutant General/Military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d00"/>
                    </a:solidFill>
                  </a:tcPr>
                </a:tc>
                <a:tc>
                  <a:txBody>
                    <a:bodyPr lIns="6480" rIns="6480" tIns="6480" bIns="648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Combined Homeland Security/Emergency Mgt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d00"/>
                    </a:solidFill>
                  </a:tcPr>
                </a:tc>
                <a:tc>
                  <a:txBody>
                    <a:bodyPr lIns="6480" rIns="6480" tIns="6480" bIns="648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Public Safety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d00"/>
                    </a:solidFill>
                  </a:tcPr>
                </a:tc>
                <a:tc>
                  <a:txBody>
                    <a:bodyPr lIns="6480" rIns="6480" tIns="6480" bIns="648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State Poli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d00"/>
                    </a:solidFill>
                  </a:tcPr>
                </a:tc>
                <a:tc>
                  <a:txBody>
                    <a:bodyPr lIns="6480" rIns="6480" tIns="6480" bIns="648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Oth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d00"/>
                    </a:solidFill>
                  </a:tcPr>
                </a:tc>
              </a:tr>
              <a:tr h="576360">
                <a:tc>
                  <a:txBody>
                    <a:bodyPr lIns="6480" rIns="6480" tIns="6480" bIns="648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200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ad00"/>
                    </a:solidFill>
                  </a:tcPr>
                </a:tc>
                <a:tc>
                  <a:txBody>
                    <a:bodyPr lIns="6480" rIns="6480" tIns="6480" bIns="648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1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6480" rIns="6480" tIns="6480" bIns="648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1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6480" rIns="6480" tIns="6480" bIns="648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1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6480" rIns="6480" tIns="6480" bIns="648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1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6480" rIns="6480" tIns="6480" bIns="648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6480" rIns="6480" tIns="6480" bIns="648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</a:tr>
              <a:tr h="577800">
                <a:tc>
                  <a:txBody>
                    <a:bodyPr lIns="6480" rIns="6480" tIns="6480" bIns="648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200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ad00"/>
                    </a:solidFill>
                  </a:tcPr>
                </a:tc>
                <a:tc>
                  <a:txBody>
                    <a:bodyPr lIns="6480" rIns="6480" tIns="6480" bIns="648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6480" rIns="6480" tIns="6480" bIns="648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6480" rIns="6480" tIns="6480" bIns="648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3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6480" rIns="6480" tIns="6480" bIns="648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6480" rIns="6480" tIns="6480" bIns="648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6480" rIns="6480" tIns="6480" bIns="648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</a:tr>
              <a:tr h="577800">
                <a:tc>
                  <a:txBody>
                    <a:bodyPr lIns="6480" rIns="6480" tIns="6480" bIns="648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201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ad00"/>
                    </a:solidFill>
                  </a:tcPr>
                </a:tc>
                <a:tc>
                  <a:txBody>
                    <a:bodyPr lIns="6480" rIns="6480" tIns="6480" bIns="648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1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6480" rIns="6480" tIns="6480" bIns="648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1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6480" rIns="6480" tIns="6480" bIns="648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6480" rIns="6480" tIns="6480" bIns="648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1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6480" rIns="6480" tIns="6480" bIns="648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6480" rIns="6480" tIns="6480" bIns="648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</a:tr>
              <a:tr h="577800">
                <a:tc>
                  <a:txBody>
                    <a:bodyPr lIns="6480" rIns="6480" tIns="6480" bIns="648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201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ad00"/>
                    </a:solidFill>
                  </a:tcPr>
                </a:tc>
                <a:tc>
                  <a:txBody>
                    <a:bodyPr lIns="6480" rIns="6480" tIns="6480" bIns="648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6480" rIns="6480" tIns="6480" bIns="648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1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6480" rIns="6480" tIns="6480" bIns="648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6480" rIns="6480" tIns="6480" bIns="648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1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6480" rIns="6480" tIns="6480" bIns="648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6480" rIns="6480" tIns="6480" bIns="648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</a:tr>
            </a:tbl>
          </a:graphicData>
        </a:graphic>
      </p:graphicFrame>
      <p:sp>
        <p:nvSpPr>
          <p:cNvPr id="105" name="Rectangle 1"/>
          <p:cNvSpPr/>
          <p:nvPr/>
        </p:nvSpPr>
        <p:spPr>
          <a:xfrm>
            <a:off x="457200" y="31305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hecke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Rectangle 2" descr=""/>
          <p:cNvPicPr/>
          <p:nvPr/>
        </p:nvPicPr>
        <p:blipFill>
          <a:blip r:embed="rId1"/>
          <a:stretch/>
        </p:blipFill>
        <p:spPr>
          <a:xfrm>
            <a:off x="457200" y="-79200"/>
            <a:ext cx="8229600" cy="168264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 txBox="1"/>
          <p:nvPr/>
        </p:nvSpPr>
        <p:spPr>
          <a:xfrm>
            <a:off x="0" y="137160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National Association of Countie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National League of Citie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U.S. Conference of Mayor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8" name="Footer Placeholder 1"/>
          <p:cNvSpPr/>
          <p:nvPr/>
        </p:nvSpPr>
        <p:spPr>
          <a:xfrm>
            <a:off x="3124080" y="641664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Martin, Understanding Homeland Security © 2015 SAGE Publications, Inc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hecker dir="horz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3T18:52:59Z</dcterms:created>
  <dc:creator>gmartin</dc:creator>
  <dc:description/>
  <dc:language>en-US</dc:language>
  <cp:lastModifiedBy>Julie Griffin</cp:lastModifiedBy>
  <dcterms:modified xsi:type="dcterms:W3CDTF">2014-06-30T23:33:46Z</dcterms:modified>
  <cp:revision>128</cp:revision>
  <dc:subject/>
  <dc:title>Slide 1</dc:title>
</cp:coreProperties>
</file>